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466-C57D-437C-BD5C-CB4CEC8F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F89-5885-4B6F-B383-ADA2B29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548-49EE-4546-B5F9-520ED305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9D4-E4C4-46D8-98B3-47B832F4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61B-6F09-4F2E-B54A-99BF898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FB0-9E5B-4E74-AFF4-53AD2BD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3A7-7609-47CC-80B8-5110419D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424-987E-4807-898A-AFCCD96D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70F-E355-4691-A6B5-8057C02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1E2-3613-40A9-857E-865E8C1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055-BB9C-4AD1-AC16-61FD954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192-222B-4C7C-A06F-0BB19EE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</a:t>
            </a:r>
            <a:fld id="{A45AAA90-C07D-4260-B9F6-D8F4290366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5ce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04640"/>
            <a:ext cx="8064360" cy="5977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5c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5640" y="914400"/>
            <a:ext cx="5832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tschaftsinformatik der Produktionsunter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präsentation Wintersemester 2004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54100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Kr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666880"/>
            <a:ext cx="556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chäftsmodelle v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Software und Open 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Über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ppliancehersteller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oße Bandbreite an 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innahmen durch Vertrieb über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artungsverträge mit Partn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3581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upporthil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4038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visionen von Software-Herstel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572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rkt reagiert schnell auf Preisän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Dienstleistung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nstlei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ielgruppe: Unter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rekter Dienst am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31240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abhängig von OS, da es in der Wirtschaft einen Dienstleistungssektor 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809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ompetenz und Vertra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4267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rechnung über Personen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Dienstleistung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nstleister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209680"/>
            <a:ext cx="6337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4 Kategorien Dienstle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stributoren, HW-Hersteller, Systemintegratoren und spezialisierte OS-Dienstle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3581280"/>
            <a:ext cx="633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4 Support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stallationssupport, Supportpakete, Wartungsverträge, Integrationsleis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800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affe Organisation als Voraus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OS-Mediator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Mediatormod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SourceForge.net, Berl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6668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ermittlung von Entwicklern, Nutzern, Dienstleistern und Werbetreibenden übe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ein Produkt und keine Dienstleistung i.e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886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lattform um Open Source Software zu sch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OS-Mediator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Mediatormodelle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nanzierung über Werbung nicht erfolg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26668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kundäres Modell: Kommerzielles Softwareangebot auf dem Por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strierung gegen Beza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3886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mut bei der OS-Geme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4343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ohe Nutzerzahlen =&gt; Attraktivität =&gt;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4800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schließlich Internetpräs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nstige 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tige Mod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438280" y="2057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mbedded 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2514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mbedded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29718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rinstalliert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oße integrierte IT-Anbi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3809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Linux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267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ü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472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imm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azit und Ausbl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z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438280" y="2057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erschiedene Geschäftsmo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25146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scheidungsfaktor: Abhebung von prop. SW und dadurch Gewinn von großen Marktante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200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ößter Konkurrent ist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3657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S-Gemeinde mit Grundsätzen und Z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azit und Ausbl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sb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438280" y="2057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raussagen sind 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2514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te 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29718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lexibi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achsende OS-Geme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3886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satz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5ce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404640"/>
            <a:ext cx="8064360" cy="5977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5c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052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len D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ür Ih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merksam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4419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4599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a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1337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griffsklä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29528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81952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rstellung der Geschäftsmodelle (Angebotsse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azit &amp; Aus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4599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rif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prietär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8195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en Sourc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38280" y="39625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schäftsmo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pen Source Geschäft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rum nur OS-Geschäftsmode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S als Marketing-Konzept der FS ent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schäftsmodelle eindeutig kommerz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iele Quellen benutzen OS und FS syno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stributorenmod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usammenfügen fremde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siert rein auf 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ell von SuSE oder RedHat mit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43434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innahmen durch den Vertrieb über Partner gegen einmaligen Kaufpreis ohne Folg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029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usatzverträge über Support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5812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Betriebssysteme für Server, Clients und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stributorenmodell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ein Urheberrechtsschutz wegen OS-Liz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ielgruppe: Unternehmen und Privat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iel: Dauerhafte Bindung von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581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fahr: alternativer Bezugsweg (Red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038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ternationale Vor-Ort-Präs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kationsanbi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2096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rstellung eigener Software unter einer OS-Liz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6668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.d.R. Zusatzsoftware mit Vertrieb über Internet ohne Partner. Vor-Ort-Präsenz nicht not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38280" y="3352680"/>
            <a:ext cx="63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3 Entwicklungsan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p. SW =&gt; Quellcode Freigabe (Mozi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anze OS Entwicklung unter Lizenz (Red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S-Projekt =&gt; Kommerzieller Vertri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1814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duktumfang von Zusatzsoftware bis Officepa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kationsanbieter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utzung in Kombination mit Windows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38280" y="2666880"/>
            <a:ext cx="633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winnm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atis, weil Markt keine Gewinne versp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bührenpflichtige Lizenzen (Zeit, Umfa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716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5400720" cy="1609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38280" y="4038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rtschöpfungsk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pplianceherstel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22096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räte, bestehend aus Hard- &amp; Software mit OSS-Betriebssystemkern und Schnittstelle zu Benu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895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rtschöpfung erfolgt bis zum Ver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38280" y="3352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upport übernehmen Partnerfi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809880"/>
            <a:ext cx="633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Bekannteste Anbi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Cobalt/SUN, IBM Whistle, IBM Net Vista, LinWare, No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6:39:26Z</dcterms:created>
  <dc:creator>Mr.Bob</dc:creator>
  <dc:description/>
  <dc:language>en-US</dc:language>
  <cp:lastModifiedBy>SantaKrus</cp:lastModifiedBy>
  <dcterms:modified xsi:type="dcterms:W3CDTF">2004-12-21T09:22:27Z</dcterms:modified>
  <cp:revision>148</cp:revision>
  <dc:subject/>
  <dc:title>Clever Connection Company</dc:title>
</cp:coreProperties>
</file>